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CE09F-CCD5-42F0-993F-D87C60C2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A4528-CEA2-4903-A618-49B6A363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F0C5D-7DEF-45AC-B6BA-C19C183B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E0DA8-C842-4530-8C71-464B21CC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8A6F-9343-4376-824B-AB0F80B7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49B4-B023-4161-9405-96D23E31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8A4F-715D-4CB2-966E-95C81D5E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11A8-0ABA-413E-8977-FD032F6F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E83E-7742-401C-8D04-282FD709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A8A7-CFBC-48C6-A0EB-29FB315F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EC22-AA6A-46BD-8946-30CDBE6A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F34AC-ED49-48A0-B015-0AA156A2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C469-BE73-40EA-BB09-2F6F145E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FC9F-D233-40A6-8898-93852EA1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64C4-6A54-4626-9836-8F51B8FE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DC9E-6531-4260-9ADF-3A6B79B4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5102-D4DE-40C7-96D9-9427F9D4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6A66A-EEFA-4642-9067-E27A6252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590D-FD59-494A-B59B-DE7C90CD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2602-7977-47E0-B3C6-D57CB53D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D5AD8-0B31-4AAF-943B-CC559178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ED71-4DB6-4E3F-9944-19F2D3A6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E6035-4A24-42BB-9F01-22AE06A5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0DFC0-93C2-43BA-A585-3EFD90CA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8DE4-B141-4C06-89E3-20DB176E5B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0BBD-B803-4B78-86E1-43198D1008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886e0"/>
                </a:solidFill>
                <a:latin typeface="Garamond"/>
              </a:rPr>
              <a:t>Me llamo _______      Clase 7IM</a:t>
            </a:r>
            <a:br>
              <a:rPr sz="4000"/>
            </a:br>
            <a:r>
              <a:rPr b="1" lang="en-US" sz="4000" spc="-1" strike="noStrike">
                <a:solidFill>
                  <a:srgbClr val="a886e0"/>
                </a:solidFill>
                <a:latin typeface="Garamond"/>
              </a:rPr>
              <a:t>La fecha es el 2 de mayo del 2012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Garamond"/>
              </a:rPr>
              <a:t>Propósito # 63:</a:t>
            </a: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 ¿Tienes tus esquí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Garamond"/>
              </a:rPr>
              <a:t>Actividad Inicial:</a:t>
            </a: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opy and respond using the direct object pronouns (lo, la, los, l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1. Ayer, ¿compraste el anorak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2. ¿Bajaste la pista sin problem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3. ¿Invitaste a tu amigo a esquiar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4. ¿Compraste los boleto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5. ¿Ayudaste a tu amigo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6. ¿Disfrutaste el paseo con tus amigo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R y SER en el PRETERI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TextBox 40"/>
          <p:cNvSpPr/>
          <p:nvPr/>
        </p:nvSpPr>
        <p:spPr>
          <a:xfrm>
            <a:off x="228600" y="236232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verbs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I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(to go)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SE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(to be)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r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rregular in the preterit. They share the same forms. The context of a sentence will let you know which is being us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IR </a:t>
            </a:r>
            <a:r>
              <a:rPr b="1" i="1" lang="en-US" sz="4400" spc="-1" strike="noStrike">
                <a:solidFill>
                  <a:srgbClr val="ffcc00"/>
                </a:solidFill>
                <a:latin typeface="Garamond"/>
              </a:rPr>
              <a:t>(to go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Content Placeholder 11"/>
          <p:cNvSpPr/>
          <p:nvPr/>
        </p:nvSpPr>
        <p:spPr>
          <a:xfrm>
            <a:off x="380880" y="15238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 fontScale="91000"/>
          </a:bodyPr>
          <a:p>
            <a:pPr marL="240840" indent="-240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 u="sng">
                <a:solidFill>
                  <a:srgbClr val="ffffff"/>
                </a:solidFill>
                <a:uFillTx/>
                <a:latin typeface="Garamond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El verano pasado, </a:t>
            </a:r>
            <a:r>
              <a:rPr b="1" lang="es-DO" sz="3200" spc="-1" strike="noStrike">
                <a:solidFill>
                  <a:srgbClr val="ff0066"/>
                </a:solidFill>
                <a:latin typeface="Garamond"/>
              </a:rPr>
              <a:t>yo</a:t>
            </a: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DO" sz="3200" spc="-1" strike="noStrike" u="sng">
                <a:solidFill>
                  <a:srgbClr val="ffcc00"/>
                </a:solidFill>
                <a:uFillTx/>
                <a:latin typeface="Garamond"/>
              </a:rPr>
              <a:t>fui</a:t>
            </a: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 a una estación de esqu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200" spc="-1" strike="noStrike">
                <a:solidFill>
                  <a:srgbClr val="ff0066"/>
                </a:solidFill>
                <a:latin typeface="Garamond"/>
              </a:rPr>
              <a:t>Tú</a:t>
            </a: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DO" sz="3200" spc="-1" strike="noStrike" u="sng">
                <a:solidFill>
                  <a:srgbClr val="ffcc00"/>
                </a:solidFill>
                <a:uFillTx/>
                <a:latin typeface="Garamond"/>
              </a:rPr>
              <a:t>fuiste</a:t>
            </a: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 con tus prim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200" spc="-1" strike="noStrike">
                <a:solidFill>
                  <a:srgbClr val="ff0066"/>
                </a:solidFill>
                <a:latin typeface="Garamond"/>
              </a:rPr>
              <a:t>Ella</a:t>
            </a: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DO" sz="3200" spc="-1" strike="noStrike" u="sng">
                <a:solidFill>
                  <a:srgbClr val="ffcc00"/>
                </a:solidFill>
                <a:uFillTx/>
                <a:latin typeface="Garamond"/>
              </a:rPr>
              <a:t>fue</a:t>
            </a: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 a comprar los boletos en la ventani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200" spc="-1" strike="noStrike">
                <a:solidFill>
                  <a:srgbClr val="ff0066"/>
                </a:solidFill>
                <a:latin typeface="Garamond"/>
              </a:rPr>
              <a:t>Nosotros</a:t>
            </a: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DO" sz="3200" spc="-1" strike="noStrike" u="sng">
                <a:solidFill>
                  <a:srgbClr val="ffcc00"/>
                </a:solidFill>
                <a:uFillTx/>
                <a:latin typeface="Garamond"/>
              </a:rPr>
              <a:t>fuimos</a:t>
            </a: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 a esquiar a la pis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200" spc="-1" strike="noStrike">
                <a:solidFill>
                  <a:srgbClr val="ff0066"/>
                </a:solidFill>
                <a:latin typeface="Garamond"/>
              </a:rPr>
              <a:t>Ellos</a:t>
            </a: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DO" sz="3200" spc="-1" strike="noStrike" u="sng">
                <a:solidFill>
                  <a:srgbClr val="ffcc00"/>
                </a:solidFill>
                <a:uFillTx/>
                <a:latin typeface="Garamond"/>
              </a:rPr>
              <a:t>fueron</a:t>
            </a: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 a buscar los bat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Garamond"/>
              </a:rPr>
              <a:t>SER </a:t>
            </a:r>
            <a:r>
              <a:rPr b="1" i="1" lang="en-US" sz="4400" spc="-1" strike="noStrike">
                <a:solidFill>
                  <a:srgbClr val="cc00ff"/>
                </a:solidFill>
                <a:latin typeface="Garamond"/>
              </a:rPr>
              <a:t>(to be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Content Placeholder 11"/>
          <p:cNvSpPr/>
          <p:nvPr/>
        </p:nvSpPr>
        <p:spPr>
          <a:xfrm>
            <a:off x="228600" y="1828800"/>
            <a:ext cx="8534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 fontScale="93000"/>
          </a:bodyPr>
          <a:p>
            <a:pPr marL="246240" indent="-246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 u="sng">
                <a:solidFill>
                  <a:srgbClr val="ffffff"/>
                </a:solidFill>
                <a:uFillTx/>
                <a:latin typeface="Garamond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El verano pasado, </a:t>
            </a:r>
            <a:r>
              <a:rPr b="1" lang="es-DO" sz="3200" spc="-1" strike="noStrike">
                <a:solidFill>
                  <a:srgbClr val="ff0066"/>
                </a:solidFill>
                <a:latin typeface="Garamond"/>
              </a:rPr>
              <a:t>yo</a:t>
            </a: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DO" sz="3200" spc="-1" strike="noStrike" u="sng">
                <a:solidFill>
                  <a:srgbClr val="cc00ff"/>
                </a:solidFill>
                <a:uFillTx/>
                <a:latin typeface="Garamond"/>
              </a:rPr>
              <a:t>fui</a:t>
            </a: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 el que más jugó al ten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200" spc="-1" strike="noStrike">
                <a:solidFill>
                  <a:srgbClr val="ff0066"/>
                </a:solidFill>
                <a:latin typeface="Garamond"/>
              </a:rPr>
              <a:t>Tú</a:t>
            </a: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DO" sz="3200" spc="-1" strike="noStrike" u="sng">
                <a:solidFill>
                  <a:srgbClr val="cc00ff"/>
                </a:solidFill>
                <a:uFillTx/>
                <a:latin typeface="Garamond"/>
              </a:rPr>
              <a:t>fuiste</a:t>
            </a: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 el que perdió el partido de ten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200" spc="-1" strike="noStrike">
                <a:solidFill>
                  <a:srgbClr val="ff0066"/>
                </a:solidFill>
                <a:latin typeface="Garamond"/>
              </a:rPr>
              <a:t>Ella</a:t>
            </a: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DO" sz="3200" spc="-1" strike="noStrike" u="sng">
                <a:solidFill>
                  <a:srgbClr val="cc00ff"/>
                </a:solidFill>
                <a:uFillTx/>
                <a:latin typeface="Garamond"/>
              </a:rPr>
              <a:t>fue</a:t>
            </a:r>
            <a:r>
              <a:rPr b="0" lang="es-DO" sz="32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la que ganó el partido de ten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200" spc="-1" strike="noStrike">
                <a:solidFill>
                  <a:srgbClr val="ff0066"/>
                </a:solidFill>
                <a:latin typeface="Garamond"/>
              </a:rPr>
              <a:t>Nosotros</a:t>
            </a: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DO" sz="3200" spc="-1" strike="noStrike" u="sng">
                <a:solidFill>
                  <a:srgbClr val="cc00ff"/>
                </a:solidFill>
                <a:uFillTx/>
                <a:latin typeface="Garamond"/>
              </a:rPr>
              <a:t>fuimos</a:t>
            </a: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 los que mejor esquiam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200" spc="-1" strike="noStrike">
                <a:solidFill>
                  <a:srgbClr val="ff0066"/>
                </a:solidFill>
                <a:latin typeface="Garamond"/>
              </a:rPr>
              <a:t>Ellos</a:t>
            </a: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DO" sz="3200" spc="-1" strike="noStrike" u="sng">
                <a:solidFill>
                  <a:srgbClr val="cc00ff"/>
                </a:solidFill>
                <a:uFillTx/>
                <a:latin typeface="Garamond"/>
              </a:rPr>
              <a:t>fueron</a:t>
            </a:r>
            <a:r>
              <a:rPr b="0" lang="es-DO" sz="32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los que peor esquia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Conjugac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8229600" cy="4597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nfinitiv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i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00ff"/>
                          </a:solidFill>
                          <a:latin typeface="Garamond"/>
                          <a:ea typeface="Arial"/>
                        </a:rPr>
                        <a:t>s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fu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886e0"/>
                          </a:solidFill>
                          <a:latin typeface="Garamond"/>
                          <a:ea typeface="Arial"/>
                        </a:rPr>
                        <a:t>fu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DO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fuis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886e0"/>
                          </a:solidFill>
                          <a:latin typeface="Garamond"/>
                          <a:ea typeface="Arial"/>
                        </a:rPr>
                        <a:t>fuis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ÉL, ELLA, U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f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886e0"/>
                          </a:solidFill>
                          <a:latin typeface="Garamond"/>
                          <a:ea typeface="Arial"/>
                        </a:rPr>
                        <a:t>f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fuimo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886e0"/>
                          </a:solidFill>
                          <a:latin typeface="Garamond"/>
                          <a:ea typeface="Arial"/>
                        </a:rPr>
                        <a:t>fuimo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ELLOS, ELLAS, UD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fuer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886e0"/>
                          </a:solidFill>
                          <a:latin typeface="Garamond"/>
                          <a:ea typeface="Arial"/>
                        </a:rPr>
                        <a:t>fuer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Practi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457200" y="167652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Ayer, ¿fuiste a la escuel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¿Fue fácil o difícil el examen de españo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¿Cuándo fue la ultima vez que fuiste a un balneari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¿Fuiste  a esquiar con tus amig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Garamond"/>
              </a:rPr>
              <a:t>¿Quién de tus amigos fue el más diverti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Tarea # 6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RKB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rcicio 18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. 64 y p. 6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00:45:20Z</dcterms:created>
  <dc:creator>Helen Zumaeta</dc:creator>
  <dc:description/>
  <dc:language>en-US</dc:language>
  <cp:lastModifiedBy>Helen Zumaeta</cp:lastModifiedBy>
  <dcterms:modified xsi:type="dcterms:W3CDTF">2012-05-02T01:06:10Z</dcterms:modified>
  <cp:revision>1</cp:revision>
  <dc:subject/>
  <dc:title>Me llamo _______      Clase 7IM La fecha es el 2 de mayo del 2012</dc:title>
</cp:coreProperties>
</file>